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79A-ADE5-49A2-BEE8-C6BF3A52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514-EFA4-4168-B9FC-132468C5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50D-8792-4B62-8533-D4BFAE9D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88F-FEF2-4B79-B66E-42286EEB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DAB-18FC-4476-85E4-9C574A88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ED0E-DE9C-4B30-960F-BB38B5B8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06DF-E87A-49AD-A1BB-AC35D7F5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ABD-6D88-4875-A84F-8AADE35B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893-7568-4605-A8CA-11D42E35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072-A339-497C-AEE3-5A2FB4CF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2B2-E97A-4F0B-8F83-E9045DF5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BBA-3DE5-4589-BA74-B3370F65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2B1D-C341-4E0B-BA45-D84F49C18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Garamond"/>
              </a:rPr>
              <a:t>Using Area Models for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The following presentation will teach you how to build area models with AlgeBlocks to factor trinom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257440" y="3505320"/>
            <a:ext cx="2819160" cy="2819160"/>
            <a:chOff x="5257440" y="3505320"/>
            <a:chExt cx="2819160" cy="2819160"/>
          </a:xfrm>
        </p:grpSpPr>
        <p:sp>
          <p:nvSpPr>
            <p:cNvPr id="44" name=""/>
            <p:cNvSpPr/>
            <p:nvPr/>
          </p:nvSpPr>
          <p:spPr>
            <a:xfrm>
              <a:off x="5257800" y="35053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5257440" y="3505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762120" y="228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Let’s look at an easy problem. Here is how we would make an area model to factor 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5x +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501156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one of your dimensions down this side. Make sure you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4956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3276720"/>
            <a:ext cx="304560" cy="3045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9144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5x + 6 is the product in our problem. It is also the area in our area model. Our goal is to find the factors or dimensions of our area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152388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the other dimension down this side. Again, make sure to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4876560" y="2133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9810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we are ready to find our factors or the dimensions of our area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57150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We will build the area in this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952880" y="3505320"/>
            <a:ext cx="301680" cy="1977840"/>
            <a:chOff x="4952880" y="3505320"/>
            <a:chExt cx="301680" cy="1977840"/>
          </a:xfrm>
        </p:grpSpPr>
        <p:sp>
          <p:nvSpPr>
            <p:cNvPr id="56" name=""/>
            <p:cNvSpPr/>
            <p:nvPr/>
          </p:nvSpPr>
          <p:spPr>
            <a:xfrm>
              <a:off x="495288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52880" y="48769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52880" y="51814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257800" y="3195720"/>
            <a:ext cx="2282760" cy="306360"/>
            <a:chOff x="5257800" y="3195720"/>
            <a:chExt cx="2282760" cy="306360"/>
          </a:xfrm>
        </p:grpSpPr>
        <p:sp>
          <p:nvSpPr>
            <p:cNvPr id="60" name=""/>
            <p:cNvSpPr/>
            <p:nvPr/>
          </p:nvSpPr>
          <p:spPr>
            <a:xfrm rot="5400000">
              <a:off x="5792760" y="266544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8880" y="31957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432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940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257800" y="3505320"/>
            <a:ext cx="2282760" cy="1977840"/>
            <a:chOff x="5257800" y="3505320"/>
            <a:chExt cx="2282760" cy="1977840"/>
          </a:xfrm>
        </p:grpSpPr>
        <p:sp>
          <p:nvSpPr>
            <p:cNvPr id="65" name=""/>
            <p:cNvSpPr/>
            <p:nvPr/>
          </p:nvSpPr>
          <p:spPr>
            <a:xfrm>
              <a:off x="5257800" y="3505320"/>
              <a:ext cx="137160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3432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888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5792760" y="434196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5792760" y="46465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29400" y="48769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34320" y="48769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38880" y="48769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29400" y="51814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34320" y="51814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38880" y="51814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04920" y="3200400"/>
            <a:ext cx="43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So our dimensions are (x + 2) and (x + 3).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So, here is the solution to the original problem: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5x + 6 = (x + 2)(x +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5257440" y="3505320"/>
            <a:ext cx="2819160" cy="2819160"/>
            <a:chOff x="5257440" y="3505320"/>
            <a:chExt cx="2819160" cy="2819160"/>
          </a:xfrm>
        </p:grpSpPr>
        <p:sp>
          <p:nvSpPr>
            <p:cNvPr id="79" name=""/>
            <p:cNvSpPr/>
            <p:nvPr/>
          </p:nvSpPr>
          <p:spPr>
            <a:xfrm>
              <a:off x="5257800" y="35053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5257440" y="3505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62120" y="228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let’s try the following problem. Here is how we would make an area model to factor 2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11x +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501156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one of your dimensions down this side. Make sure you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44956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3276720"/>
            <a:ext cx="304560" cy="3045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9144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2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11x + 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is the product in our problem. It is also the area in our area model. Our goal is to find the factors or dimensions of our area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152388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the other dimension down this side. Again, make sure to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4876560" y="2133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9810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we are ready to find our factors or the dimensions of our area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649116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We will build the area in this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200400"/>
            <a:ext cx="43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So our dimensions are (x + 4) and (2x + 3).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So, here is the solution to the original problem: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2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11x + 12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= (x + 4)(2x +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257800" y="3505320"/>
            <a:ext cx="3654360" cy="2587680"/>
            <a:chOff x="5257800" y="3505320"/>
            <a:chExt cx="3654360" cy="2587680"/>
          </a:xfrm>
        </p:grpSpPr>
        <p:sp>
          <p:nvSpPr>
            <p:cNvPr id="92" name=""/>
            <p:cNvSpPr/>
            <p:nvPr/>
          </p:nvSpPr>
          <p:spPr>
            <a:xfrm>
              <a:off x="830592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5257800" y="3505320"/>
              <a:ext cx="3654360" cy="2587680"/>
              <a:chOff x="5257800" y="3505320"/>
              <a:chExt cx="3654360" cy="2587680"/>
            </a:xfrm>
          </p:grpSpPr>
          <p:sp>
            <p:nvSpPr>
              <p:cNvPr id="94" name=""/>
              <p:cNvSpPr/>
              <p:nvPr/>
            </p:nvSpPr>
            <p:spPr>
              <a:xfrm>
                <a:off x="5257800" y="3505320"/>
                <a:ext cx="137160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001000" y="35053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610480" y="35053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5400000">
                <a:off x="5792760" y="434196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5792760" y="46465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8001000" y="4876920"/>
                <a:ext cx="911160" cy="606240"/>
                <a:chOff x="8001000" y="4876920"/>
                <a:chExt cx="911160" cy="606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8610480" y="487692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001000" y="487692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305920" y="518148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610480" y="518148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001000" y="518148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305920" y="487692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6629400" y="3505320"/>
                <a:ext cx="137160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400000">
                <a:off x="5792760" y="495144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400000">
                <a:off x="5792760" y="525636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7164360" y="434196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400000">
                <a:off x="7164360" y="46465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400000">
                <a:off x="7164360" y="495144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400000">
                <a:off x="7164360" y="525636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8001000" y="5486400"/>
                <a:ext cx="911160" cy="606240"/>
                <a:chOff x="8001000" y="5486400"/>
                <a:chExt cx="911160" cy="6062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8610480" y="548640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01000" y="548640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305920" y="579096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610480" y="579096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8001000" y="579096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305920" y="548640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" name=""/>
          <p:cNvGrpSpPr/>
          <p:nvPr/>
        </p:nvGrpSpPr>
        <p:grpSpPr>
          <a:xfrm>
            <a:off x="4952880" y="3505320"/>
            <a:ext cx="301680" cy="2587680"/>
            <a:chOff x="4952880" y="3505320"/>
            <a:chExt cx="301680" cy="2587680"/>
          </a:xfrm>
        </p:grpSpPr>
        <p:grpSp>
          <p:nvGrpSpPr>
            <p:cNvPr id="121" name=""/>
            <p:cNvGrpSpPr/>
            <p:nvPr/>
          </p:nvGrpSpPr>
          <p:grpSpPr>
            <a:xfrm>
              <a:off x="4952880" y="3505320"/>
              <a:ext cx="301680" cy="1977840"/>
              <a:chOff x="4952880" y="3505320"/>
              <a:chExt cx="301680" cy="1977840"/>
            </a:xfrm>
          </p:grpSpPr>
          <p:sp>
            <p:nvSpPr>
              <p:cNvPr id="122" name=""/>
              <p:cNvSpPr/>
              <p:nvPr/>
            </p:nvSpPr>
            <p:spPr>
              <a:xfrm>
                <a:off x="4952880" y="35053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52880" y="4876920"/>
                <a:ext cx="301680" cy="301680"/>
              </a:xfrm>
              <a:prstGeom prst="rect">
                <a:avLst/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52880" y="5181480"/>
                <a:ext cx="301680" cy="301680"/>
              </a:xfrm>
              <a:prstGeom prst="rect">
                <a:avLst/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952880" y="5486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52880" y="57913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257800" y="3200400"/>
            <a:ext cx="3654360" cy="301680"/>
            <a:chOff x="5257800" y="3200400"/>
            <a:chExt cx="3654360" cy="301680"/>
          </a:xfrm>
        </p:grpSpPr>
        <p:sp>
          <p:nvSpPr>
            <p:cNvPr id="128" name=""/>
            <p:cNvSpPr/>
            <p:nvPr/>
          </p:nvSpPr>
          <p:spPr>
            <a:xfrm rot="5400000">
              <a:off x="5792760" y="266544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0592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1048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0100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7164360" y="266544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40:30Z</dcterms:created>
  <dc:creator>Mary</dc:creator>
  <dc:description/>
  <dc:language>en-US</dc:language>
  <cp:lastModifiedBy>Mary</cp:lastModifiedBy>
  <dcterms:modified xsi:type="dcterms:W3CDTF">2008-07-22T21:03:26Z</dcterms:modified>
  <cp:revision>4</cp:revision>
  <dc:subject/>
  <dc:title>Using Area Models for Factoring</dc:title>
</cp:coreProperties>
</file>